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bomb.wav" ContentType="audio/x-wav"/>
  <Override PartName="/ppt/media/image7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D689-82ED-403A-B3EA-002A4A2E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73B-4FF6-4A1B-9E13-743DC86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F0C-1FB9-4EDD-B7EB-BF62442A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183-2D1A-4C75-AEFA-85C51EC8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6754-CA57-49AA-9B6A-983F1198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51CC-90EF-4E4E-885D-02394EB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2529-5D9C-4AE0-8AC5-6FE1AA3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B03C-D70F-47E7-A455-8775D44C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C2F5-3103-4FD9-9872-3AA5C7F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2E49-B2B4-40DD-BECB-33E9775A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D4B-8C08-45E4-9E19-9C29581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FB2-94AD-4BFD-9B38-A8D09A17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0A8E-42AC-4708-9950-416E00E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2A26-A40A-4938-B24D-ACCBD8D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FB59-1A5B-47DD-A6A4-7787CC29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0244-EEFD-4258-B233-C2967146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46A-4565-4F83-8DF9-2789C52F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F37-A9CD-4E11-AAB1-D50A8A9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7B0-A393-4836-88DA-FD1AB59D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CB8-71A4-4F69-B615-ACEC46FB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629-2156-4DB5-85C6-797CBDE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71C-19D9-45BE-9C4E-5E90153C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86D-FD3A-4A02-8B3A-5E5885E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CE5-AEA0-454B-AC9A-7DA7B4C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29D-97F2-463B-9D7E-6CEB30B18378}" type="slidenum">
              <a:rPr b="0" lang="en-US" sz="1200" spc="-1" strike="noStrike">
                <a:solidFill>
                  <a:srgbClr val="cce1f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rbe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3F0-167D-4499-B365-0C4CC91BDE03}" type="slidenum">
              <a:rPr b="0" lang="en-US" sz="1200" spc="-1" strike="noStrike">
                <a:solidFill>
                  <a:srgbClr val="cce1f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ewishvirtuallibrary.org/" TargetMode="External"/><Relationship Id="rId2" Type="http://schemas.openxmlformats.org/officeDocument/2006/relationships/hyperlink" Target="http://www.spartacus.schoolnet.co.uk/2WWgo" TargetMode="External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uns will make us powerful; butter will only make us fat.”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- Hermann Goer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" name="Picture 2" descr="http://www.law.umkc.edu/faculty/projects/ftrials/nuremberg/Herman_Goering.jpg"/>
          <p:cNvPicPr/>
          <p:nvPr/>
        </p:nvPicPr>
        <p:blipFill>
          <a:blip r:embed="rId2"/>
          <a:stretch/>
        </p:blipFill>
        <p:spPr>
          <a:xfrm>
            <a:off x="2590920" y="3809880"/>
            <a:ext cx="191772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bomb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Source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www.jewishvirtuallibrary.org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history1900s.about.com/library/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www.spartacus.schoolnet.co.uk/2WWg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historyplace.com/../h-goering.htm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snopes.com/quotes/goering.asp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euronet.nl/../goering.htm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law.umkc.edu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www.topnews.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library.usu.edu 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Background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orn on January 12, 1893 in Rosenheim, Upper Bava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f five children in famil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rents were Heinrich and Franziska Ern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0" name="Picture 4" descr="http://www.ngfl-cymru.org.uk/vtc/ngfl/history/nazi_prop/images/nazi-index_04.jpg"/>
          <p:cNvPicPr/>
          <p:nvPr/>
        </p:nvPicPr>
        <p:blipFill>
          <a:blip r:embed="rId1"/>
          <a:stretch/>
        </p:blipFill>
        <p:spPr>
          <a:xfrm>
            <a:off x="2057400" y="3505320"/>
            <a:ext cx="47149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Schooling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nt to boarding school in Ansbach, Franconia in 190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ent to cadet institutes at Karlsruh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ilitary college at Lichterfeld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3" name="Picture 2" descr="http://www.hitlerpages.com/wpimages/wp6be495d7_02.jpg"/>
          <p:cNvPicPr/>
          <p:nvPr/>
        </p:nvPicPr>
        <p:blipFill>
          <a:blip r:embed="rId1"/>
          <a:stretch/>
        </p:blipFill>
        <p:spPr>
          <a:xfrm>
            <a:off x="2438280" y="3429000"/>
            <a:ext cx="405144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World War I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antry when war beg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eived iron cross, first cla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orked at Fokker Aircraft for 2 yea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6" name="Picture 3" descr="8YOQBMCA78NHLECA6NBFJDCA0XJ0NKCAEO0LOMCAD52WS1CA5R1X28CAC2XLCYCAQLKTBRCA45021VCA5SQH5VCA0VLCRWCAE00OINCARNUPKYCA0OFO1PCASI7W2ICAMRAPQQCA3RAOTA.jpg"/>
          <p:cNvPicPr/>
          <p:nvPr/>
        </p:nvPicPr>
        <p:blipFill>
          <a:blip r:embed="rId1"/>
          <a:stretch/>
        </p:blipFill>
        <p:spPr>
          <a:xfrm>
            <a:off x="2286000" y="3733920"/>
            <a:ext cx="40006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Between War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nrolled at University of Muni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articipated in Beer Hall Putsch in 1923 injuring his groi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me addicted to morphine which he used to alleviate pai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ected to Reichstag in 1928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me president of Reichstag in 193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World War II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ed the Jews 1 million marks for damages in which Nazis inflic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reated SS police, Gestap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ppointed by Hitler as head of Sturm Abteilu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lenipotentiary for Implementation of Four Year Pla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1" name="Picture 3" descr="images.jpg"/>
          <p:cNvPicPr/>
          <p:nvPr/>
        </p:nvPicPr>
        <p:blipFill>
          <a:blip r:embed="rId1"/>
          <a:stretch/>
        </p:blipFill>
        <p:spPr>
          <a:xfrm>
            <a:off x="3657600" y="4267080"/>
            <a:ext cx="163836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Accomplishments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reated SS police and Gestap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ir Ace and killed 22 Allied aircraf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ichsmarschal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ad of Luftwaff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4" name="Picture 3" descr="lufwaffe.jpg"/>
          <p:cNvPicPr/>
          <p:nvPr/>
        </p:nvPicPr>
        <p:blipFill>
          <a:blip r:embed="rId1"/>
          <a:stretch/>
        </p:blipFill>
        <p:spPr>
          <a:xfrm>
            <a:off x="3962520" y="2971800"/>
            <a:ext cx="2597040" cy="363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Positions in Government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ommander-in-Chief of Luftwaff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esident of Reichsta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ime Minister of Pruss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tler’s designated success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man in the Third Reic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7" name="Picture 3" descr="goering_hitler.jpg"/>
          <p:cNvPicPr/>
          <p:nvPr/>
        </p:nvPicPr>
        <p:blipFill>
          <a:blip r:embed="rId1"/>
          <a:stretch/>
        </p:blipFill>
        <p:spPr>
          <a:xfrm>
            <a:off x="5791320" y="2666880"/>
            <a:ext cx="285732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orbel"/>
              </a:rPr>
              <a:t>Trial and Death</a:t>
            </a:r>
            <a:endParaRPr b="0" lang="en-US" sz="5000" spc="-1" strike="noStrike">
              <a:solidFill>
                <a:srgbClr val="d6ecff"/>
              </a:solidFill>
              <a:latin typeface="Corbe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itler had him arrested for trying to overthrow the govern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nd guilty at Nuremberg War Crimes Tri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wallowed a cyanide capsule in jail committing suicid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0" name="Picture 3" descr="Goersuicide.jpg"/>
          <p:cNvPicPr/>
          <p:nvPr/>
        </p:nvPicPr>
        <p:blipFill>
          <a:blip r:embed="rId1"/>
          <a:stretch/>
        </p:blipFill>
        <p:spPr>
          <a:xfrm>
            <a:off x="2590920" y="3809880"/>
            <a:ext cx="3603600" cy="2882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7:44Z</dcterms:created>
  <dc:creator> </dc:creator>
  <dc:description/>
  <dc:language>en-US</dc:language>
  <cp:lastModifiedBy> </cp:lastModifiedBy>
  <dcterms:modified xsi:type="dcterms:W3CDTF">2009-11-25T17:09:31Z</dcterms:modified>
  <cp:revision>26</cp:revision>
  <dc:subject/>
  <dc:title>Hermann Goering</dc:title>
</cp:coreProperties>
</file>